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E589-A777-476C-AB8B-AEA92C3B23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F91D-A8E0-4A21-B538-9403F5F4BF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9C26-EDBA-43E2-A2F4-5D045B75F6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D0DC-BB30-4166-8369-6BD22BAFC8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7AC46-8062-495C-97A4-8DFF29471E4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8D1A-7491-40BE-9BCA-F4B684391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51AA-73C6-4745-97E2-2336F731B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D4B-5B6D-49C8-8B00-F633A18A6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FA09-AEAF-40D7-8AEE-252EDD54A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5F07-06F1-43B5-955B-272094FD3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1084-2D12-44B7-8566-8E9C6AFE4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1717-4DE0-4C2D-A097-2C33E63B2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0EE8-ACED-4752-9AD7-F694A6B063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F61E-1E24-4DE9-88C7-787C29C35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68BE-3EFD-4A93-965F-CCEA971B0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1B55-984E-4957-8D07-DD2007D61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6B4A-12EA-4F44-8ABD-01E9A2692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48DA-DBB2-4939-9732-C9FF3AFB02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4519-04FA-4EAF-87D3-CA678635E6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9022-66E6-4033-AA52-1C9AC80D6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29A7-1072-41E1-96D0-680C1FEF4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7A9A-C235-47E8-A9A5-7923388D8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8CE6-E45C-4706-8C97-0C4A3FE7E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CDBF-9A56-4737-B148-E9544FBE5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3C4C-37C4-4EA4-969E-4FD4BDB68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E53B-88FE-4A23-9147-65EA171EA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5E23-4889-4193-A9E8-C514B3667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AADC-0329-4456-BB5D-C5A648D35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F2A6-DBB5-40E0-98C3-4B8A323FC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109B6A-B3CF-4322-8ABB-6959DE422BF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8CD5FDE1-42B0-41CD-B8CF-745FBA4AEF9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A8AC68-F037-4925-9715-40E134B5429B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2B383937-B8AB-4106-B5B3-9FC3230C6E90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oor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10 februar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Referentiemodellen Gemeentelij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el 1"/>
          <p:cNvSpPr/>
          <p:nvPr/>
        </p:nvSpPr>
        <p:spPr>
          <a:xfrm>
            <a:off x="15717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Referen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Gemeentelijke 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Aanpass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57120" y="714240"/>
            <a:ext cx="8460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Constructie groepattribuutsoort is aangepast, hierdoor zijn geneste groepattribuutsoorten mogelijk en dus generiek toepasbaar binnen het stels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anpassing constructie leidt tot het vervallen van stereotypes Subattribuutsoort, Subrelatiesoort en Subgroepattribuutso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emantisch  / inhoudelijk is groepattribuutsoort niet gewijzig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ttributen binnen een groep wijzigen gezamenlij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Nieuw stereotypes Datatype, Referentielijst en Referentiegegeven toegevoeg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Opname stereotype Tekentechnisch t.b.v. presentatie in diagramm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Soll: Metamodel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419040"/>
            <a:ext cx="7586640" cy="665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1-01-23T10:07:15Z</dcterms:modified>
  <cp:revision>179</cp:revision>
  <dc:subject/>
  <dc:title>Dia 1</dc:title>
</cp:coreProperties>
</file>